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7C84-372A-4159-8A73-330A844A3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A77C-1CBA-4DC0-B039-F6EE9C5218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A8F3-54AB-42B5-A8D9-2FE36E0845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5807E-2583-4BD3-9AA3-1BF61B5804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03C51-CBB5-400D-990C-9321F1DC02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388EC-E407-43CA-A1FE-A69CC5E6D8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5833F-2E4B-4DB1-8C67-1FF00E6964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D4D2D-9629-4EA5-88B0-49F59E6A96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BD769-41F1-4C29-8494-AC4F3E35E38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96D25-9248-4E55-A390-0E9FF81E5C4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09B7D-F1F9-4E22-BC4F-9AD2478E59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C0ED1-90B7-4CD8-B44C-780FECDFE0E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AFCFE-7721-4D4F-ADC9-4FB377E865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DC1AD-87B1-4AF1-8174-1BFF8B2E675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09C73-B048-4EFD-8182-E9CDA1C01D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FD97D-E5B7-4A37-B5E3-481E142045F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6096F-0C30-4F9B-912D-E7114F53BB2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6ED7E-ED4B-4D77-BCAC-02DB4ED57F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91A81-95E1-492C-9692-8CA1B78BC89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0F544-7E7B-4EB4-9CD2-90DA0045B06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B9788-DAD3-45AF-A66F-B95398E6018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5D898-2853-40EE-B22C-8B072812AD5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390F4-50F1-4FCC-8E2E-C7C68867378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E3A23-1B50-443C-B1BE-86D4EB029DF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14D04-BE9C-4B91-86DF-A6179E17BB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08C48-F3C9-4864-A7B3-CE2C6E27AF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B8640-CD29-4134-9BDC-C95CE76A7A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942A-F85A-4CBF-9976-7A900A1736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3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0113-6839-4833-8CF6-FE26FC30FA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AR_WA_partners.jpg"/>
          <p:cNvPicPr/>
          <p:nvPr/>
        </p:nvPicPr>
        <p:blipFill>
          <a:blip r:embed="rId4"/>
          <a:stretch/>
        </p:blipFill>
        <p:spPr>
          <a:xfrm>
            <a:off x="1295280" y="3809880"/>
            <a:ext cx="6782040" cy="2471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frica RISING: Sustainable Intensification of Cereal-Based Farming Systems in the Sudano-Sahelian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3580920"/>
            <a:ext cx="7696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91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Calibri"/>
              </a:rPr>
              <a:t>Report 2012 – </a:t>
            </a:r>
            <a:r>
              <a:rPr b="1" lang="en-US" sz="2400" spc="-1" strike="noStrike">
                <a:solidFill>
                  <a:srgbClr val="323232"/>
                </a:solidFill>
                <a:latin typeface="Calibri"/>
              </a:rPr>
              <a:t>M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1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</a:rPr>
              <a:t>Moving toward sustainable increases in on-farm productivity: via improved fodder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1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1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</a:rPr>
              <a:t>A Fall, IL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1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1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37720" y="8377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ject Sites and partners in M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609480" y="1625760"/>
            <a:ext cx="5867640" cy="5006880"/>
          </a:xfrm>
          <a:prstGeom prst="rect">
            <a:avLst/>
          </a:prstGeom>
          <a:ln w="0">
            <a:noFill/>
          </a:ln>
        </p:spPr>
      </p:pic>
      <p:sp>
        <p:nvSpPr>
          <p:cNvPr id="206" name="TextBox 2"/>
          <p:cNvSpPr/>
          <p:nvPr/>
        </p:nvSpPr>
        <p:spPr>
          <a:xfrm>
            <a:off x="6400800" y="1905120"/>
            <a:ext cx="266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2 District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Bougouni, 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Koutia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69 Vill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28 Commu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696680" cy="75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G Center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CRISAT, ILRI, ICRAF, AVRD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NGO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DD, MOBIOM, AMAS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based organizations: 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lth Centers: 6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ject Sites and Partners in Mal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eed the Future – Mali Target zone (Sikasso reg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trasting land use issues/opportunities (soil fertility, forest cover, transhuman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des of existing research – development partner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unctioning cooperatives, associations with crop/ livestock production of marketing obj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ite Selection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artnership with state institutions not fund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ubsidized fertiliser arrives late, and in low quant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cientists presence ‘volatile’ since Mali cris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Challeng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07:48:16Z</dcterms:created>
  <dc:creator>IITA</dc:creator>
  <dc:description/>
  <dc:language>en-US</dc:language>
  <cp:lastModifiedBy>LeBorgne, Ewen (ILRI)</cp:lastModifiedBy>
  <cp:lastPrinted>2011-10-06T11:45:23Z</cp:lastPrinted>
  <dcterms:modified xsi:type="dcterms:W3CDTF">2012-10-24T12:29:10Z</dcterms:modified>
  <cp:revision>18</cp:revision>
  <dc:subject/>
  <dc:title>Slide 1</dc:title>
</cp:coreProperties>
</file>